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4A3B-FE7E-4983-AAE7-A6849C933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63A2-574D-4CA1-B8CA-186BDB87BE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3F72-67C6-4D62-BFD1-3D6C3B7C7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For digital TV there was implemented a relatively new solution – SLSplicer. It inserts ads block into a transport stream by SCTE35 mark without transco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t saves a lot of CPU usage and allows to manage up to 30 digital SD-TV channels in one ser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3C29-66BF-455A-8C2A-F73BE198FC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90600" y="685800"/>
            <a:ext cx="6054480" cy="3406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6408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Hardware Forward Splicer is a module for PROFNEXT case. One board can plice ADs for all programs into one multiplex. It download movies and schedules from specified FTP folder by SCTE-118 stand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84760" y="8685360"/>
            <a:ext cx="29494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448F680-CD63-465A-ABBA-0DAF2D99B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685800"/>
            <a:ext cx="667368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838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EFE-7DBE-4354-AFB5-6F96744F0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2A8-9F0E-48AE-9C7D-3BCCFC56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298-5709-44ED-B085-9AA451D1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015-CF1F-4557-83D6-90FB644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1D6-14BA-48FF-93D9-A3AF7060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FAC-8B5C-4736-B425-8831811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1D4-EA47-4B66-B644-A073AF5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4BA-D1CA-4D99-B0AA-6757C65D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620-12A2-47D0-A9E9-2F0C3B94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6C6-EB76-4BE9-A8C1-6E850791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288-CFD0-4AC2-BFA1-B0C2328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A62-5CE6-42DF-A372-6EC5D1B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40E-C7D4-4808-ADB7-98D609B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E624-AF7B-4636-9175-81F5188E2A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7" descr="SliderРазработкаForPresentation.png"/>
          <p:cNvPicPr/>
          <p:nvPr/>
        </p:nvPicPr>
        <p:blipFill>
          <a:blip r:embed="rId1"/>
          <a:srcRect l="0" t="9582" r="0" b="0"/>
          <a:stretch/>
        </p:blipFill>
        <p:spPr>
          <a:xfrm>
            <a:off x="826920" y="866880"/>
            <a:ext cx="4608720" cy="1849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9" name="Рисунок 8" descr="LOGO SL OK 2019NOVEMBER-01.png"/>
          <p:cNvPicPr/>
          <p:nvPr/>
        </p:nvPicPr>
        <p:blipFill>
          <a:blip r:embed="rId2"/>
          <a:stretch/>
        </p:blipFill>
        <p:spPr>
          <a:xfrm>
            <a:off x="6227640" y="987480"/>
            <a:ext cx="1708200" cy="165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85876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Roboto Condensed"/>
              </a:rPr>
              <a:t>Новости от компании СофтЛаб-Н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3938760"/>
            <a:ext cx="64008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Игорь Таран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уководитель отдела программных разрабо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71760"/>
            <a:ext cx="8075520" cy="25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ы предупреждения о заглушенных линиях звука и линиях звука с минимальной громко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настрой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е показывать ошибки выше строки испол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ветка зеленым, если ожидание больш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941400" y="3978360"/>
            <a:ext cx="46386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71760"/>
            <a:ext cx="8075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уск исполняемых .bat или .exe фай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403280" y="2139840"/>
            <a:ext cx="3595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71760"/>
            <a:ext cx="685152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а загруженности при воспроизведе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900000" y="2211480"/>
            <a:ext cx="378144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164360" y="1692360"/>
            <a:ext cx="1511280" cy="26820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5"/>
          <p:cNvSpPr/>
          <p:nvPr/>
        </p:nvSpPr>
        <p:spPr>
          <a:xfrm>
            <a:off x="7823160" y="1692360"/>
            <a:ext cx="2872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246280" y="343548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e 24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Прямая со стрелкой 8"/>
          <p:cNvCxnSpPr/>
          <p:nvPr/>
        </p:nvCxnSpPr>
        <p:spPr>
          <a:xfrm flipH="1">
            <a:off x="4716000" y="3650760"/>
            <a:ext cx="504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Trim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1571760"/>
            <a:ext cx="40323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подробн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стики скорост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я и декодирова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ого рол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0" y="1563840"/>
            <a:ext cx="3774960" cy="2860560"/>
          </a:xfrm>
          <a:prstGeom prst="rect">
            <a:avLst/>
          </a:prstGeom>
          <a:ln w="0">
            <a:noFill/>
          </a:ln>
        </p:spPr>
      </p:pic>
      <p:sp>
        <p:nvSpPr>
          <p:cNvPr id="107" name="Овал 4"/>
          <p:cNvSpPr/>
          <p:nvPr/>
        </p:nvSpPr>
        <p:spPr>
          <a:xfrm>
            <a:off x="5364000" y="4248000"/>
            <a:ext cx="792360" cy="1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MediaInfo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571760"/>
            <a:ext cx="5473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ткрытие» роликов до тог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ни потребуются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Ai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кэширование информац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724360" y="1563840"/>
            <a:ext cx="28260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тровальный элемент Web2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нове интернет-браузера Chrome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поддержкой динамического обновления страницы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авлен новый тип титровального элемента PowerPoint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аза презентаций в формате PPT и PPT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держк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71760"/>
            <a:ext cx="6275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говор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FMP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блиотеки кодиров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код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ирован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l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4" descr="800px-Dolby-Digital.svg.png"/>
          <p:cNvPicPr/>
          <p:nvPr/>
        </p:nvPicPr>
        <p:blipFill>
          <a:blip r:embed="rId1"/>
          <a:stretch/>
        </p:blipFill>
        <p:spPr>
          <a:xfrm>
            <a:off x="6084720" y="2500200"/>
            <a:ext cx="2303640" cy="56700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826920" y="2355840"/>
            <a:ext cx="720720" cy="287280"/>
            <a:chOff x="826920" y="2355840"/>
            <a:chExt cx="720720" cy="287280"/>
          </a:xfrm>
        </p:grpSpPr>
        <p:sp>
          <p:nvSpPr>
            <p:cNvPr id="117" name="Прямая соединительная линия 5"/>
            <p:cNvSpPr/>
            <p:nvPr/>
          </p:nvSpPr>
          <p:spPr>
            <a:xfrm flipV="1"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8"/>
            <p:cNvSpPr/>
            <p:nvPr/>
          </p:nvSpPr>
          <p:spPr>
            <a:xfrm>
              <a:off x="826920" y="2355840"/>
              <a:ext cx="72072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StreamCap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71760"/>
            <a:ext cx="5770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льно улучшено качество записи для высоких разре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держано сжатие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www.softlab.tv/rus/forward/images/streamcapture5.gif"/>
          <p:cNvPicPr/>
          <p:nvPr/>
        </p:nvPicPr>
        <p:blipFill>
          <a:blip r:embed="rId1"/>
          <a:stretch/>
        </p:blipFill>
        <p:spPr>
          <a:xfrm>
            <a:off x="6372360" y="1708200"/>
            <a:ext cx="25207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звонков и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4" descr="1200px-Skype_logo_(2019–present).svg.png"/>
          <p:cNvPicPr/>
          <p:nvPr/>
        </p:nvPicPr>
        <p:blipFill>
          <a:blip r:embed="rId1"/>
          <a:stretch/>
        </p:blipFill>
        <p:spPr>
          <a:xfrm>
            <a:off x="1332000" y="2355840"/>
            <a:ext cx="792000" cy="798480"/>
          </a:xfrm>
          <a:prstGeom prst="rect">
            <a:avLst/>
          </a:prstGeom>
          <a:ln w="0">
            <a:noFill/>
          </a:ln>
        </p:spPr>
      </p:pic>
      <p:cxnSp>
        <p:nvCxnSpPr>
          <p:cNvPr id="125" name="Прямая со стрелкой 5"/>
          <p:cNvCxnSpPr/>
          <p:nvPr/>
        </p:nvCxnSpPr>
        <p:spPr>
          <a:xfrm>
            <a:off x="2340000" y="2715840"/>
            <a:ext cx="7200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6" name="Рисунок 8" descr="1200x630wa_1.png"/>
          <p:cNvPicPr/>
          <p:nvPr/>
        </p:nvPicPr>
        <p:blipFill>
          <a:blip r:embed="rId2"/>
          <a:srcRect l="32138" t="15315" r="32138" b="15315"/>
          <a:stretch/>
        </p:blipFill>
        <p:spPr>
          <a:xfrm>
            <a:off x="3276720" y="2355840"/>
            <a:ext cx="706320" cy="72072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9"/>
          <p:cNvCxnSpPr/>
          <p:nvPr/>
        </p:nvCxnSpPr>
        <p:spPr>
          <a:xfrm>
            <a:off x="4211640" y="2715840"/>
            <a:ext cx="721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8" name="Рисунок 10" descr="krugl_706.png"/>
          <p:cNvPicPr/>
          <p:nvPr/>
        </p:nvPicPr>
        <p:blipFill>
          <a:blip r:embed="rId3"/>
          <a:stretch/>
        </p:blipFill>
        <p:spPr>
          <a:xfrm>
            <a:off x="5148360" y="221148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1" descr="Assignment.jpg"/>
          <p:cNvPicPr/>
          <p:nvPr/>
        </p:nvPicPr>
        <p:blipFill>
          <a:blip r:embed="rId4"/>
          <a:stretch/>
        </p:blipFill>
        <p:spPr>
          <a:xfrm>
            <a:off x="1908000" y="3363840"/>
            <a:ext cx="367200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lantronics Entera BNC — профессиональная телефонная гарнитура"/>
          <p:cNvPicPr/>
          <p:nvPr/>
        </p:nvPicPr>
        <p:blipFill>
          <a:blip r:embed="rId1"/>
          <a:stretch/>
        </p:blipFill>
        <p:spPr>
          <a:xfrm>
            <a:off x="3132000" y="19414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rcRect l="0" t="25208" r="0" b="25208"/>
          <a:stretch/>
        </p:blipFill>
        <p:spPr>
          <a:xfrm>
            <a:off x="2556000" y="3308400"/>
            <a:ext cx="1949400" cy="96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3"/>
          <a:stretch/>
        </p:blipFill>
        <p:spPr>
          <a:xfrm>
            <a:off x="345960" y="1579680"/>
            <a:ext cx="3073680" cy="1728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829800" y="35258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214600" y="3525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вы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-S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>
            <a:off x="4427640" y="1579680"/>
            <a:ext cx="3092400" cy="173016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12"/>
          <p:cNvSpPr/>
          <p:nvPr/>
        </p:nvSpPr>
        <p:spPr>
          <a:xfrm>
            <a:off x="1971720" y="3741840"/>
            <a:ext cx="503280" cy="2156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право 13"/>
          <p:cNvSpPr/>
          <p:nvPr/>
        </p:nvSpPr>
        <p:spPr>
          <a:xfrm>
            <a:off x="4562640" y="3741840"/>
            <a:ext cx="504720" cy="215640"/>
          </a:xfrm>
          <a:prstGeom prst="rightArrow">
            <a:avLst>
              <a:gd name="adj1" fmla="val 50000"/>
              <a:gd name="adj2" fmla="val 501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37"/>
          <p:cNvGrpSpPr/>
          <p:nvPr/>
        </p:nvGrpSpPr>
        <p:grpSpPr>
          <a:xfrm>
            <a:off x="2874960" y="4172040"/>
            <a:ext cx="1192320" cy="631800"/>
            <a:chOff x="2874960" y="4172040"/>
            <a:chExt cx="1192320" cy="631800"/>
          </a:xfrm>
        </p:grpSpPr>
        <p:sp>
          <p:nvSpPr>
            <p:cNvPr id="141" name="Облако 16"/>
            <p:cNvSpPr/>
            <p:nvPr/>
          </p:nvSpPr>
          <p:spPr>
            <a:xfrm>
              <a:off x="2874960" y="4172040"/>
              <a:ext cx="1192320" cy="631800"/>
            </a:xfrm>
            <a:custGeom>
              <a:avLst/>
              <a:gdLst>
                <a:gd name="textAreaLeft" fmla="*/ 164160 w 1192320"/>
                <a:gd name="textAreaRight" fmla="*/ 943200 w 1192320"/>
                <a:gd name="textAreaTop" fmla="*/ 95400 h 631800"/>
                <a:gd name="textAreaBottom" fmla="*/ 507240 h 6318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3ff9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2994480" y="4251240"/>
              <a:ext cx="953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Интерне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2" descr=""/>
          <p:cNvPicPr/>
          <p:nvPr/>
        </p:nvPicPr>
        <p:blipFill>
          <a:blip r:embed="rId6"/>
          <a:stretch/>
        </p:blipFill>
        <p:spPr>
          <a:xfrm>
            <a:off x="3419640" y="35082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5492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1618200" y="357984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4Sk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входящих звонка Skype выдаются на независимы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х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ому абонен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yp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ывается на выбор один из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D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зависимые каналы зву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каждого Skype-соеди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втором мониторе отображаются все текущие зво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рхнизкая за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ункция зап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ка входов и выходов для NDI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сплатная техническая поддержка через портал для кли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812000" y="7002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RT (Secure Reliable Transpor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71760"/>
            <a:ext cx="5194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: сервер или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ход: только кли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ОТР: Москва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се реги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ст: Новосибирск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били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Содержимое 3" descr="SRT Alliance_logo_black.png"/>
          <p:cNvPicPr/>
          <p:nvPr/>
        </p:nvPicPr>
        <p:blipFill>
          <a:blip r:embed="rId1"/>
          <a:stretch/>
        </p:blipFill>
        <p:spPr>
          <a:xfrm>
            <a:off x="5796000" y="2427120"/>
            <a:ext cx="2952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вард Сплай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28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рекламных бл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тавка живого видео (протестировано с ВГТРК и РТРС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I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ли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потоками (для кабельщик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сия для МЧС (врезка картинки с живым звуко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286"/>
              </a:spcBef>
              <a:spcAft>
                <a:spcPts val="28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кламный сервер для поддерж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TE-11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Врезка в цифровом Т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658800" y="1571760"/>
            <a:ext cx="7826400" cy="3022560"/>
          </a:xfrm>
          <a:prstGeom prst="rect">
            <a:avLst/>
          </a:prstGeom>
          <a:ln w="0">
            <a:noFill/>
          </a:ln>
        </p:spPr>
      </p:pic>
      <p:sp>
        <p:nvSpPr>
          <p:cNvPr id="154" name="Скругленный прямоугольник 4"/>
          <p:cNvSpPr/>
          <p:nvPr/>
        </p:nvSpPr>
        <p:spPr>
          <a:xfrm>
            <a:off x="6516720" y="3003480"/>
            <a:ext cx="792000" cy="59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Forward Spli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71760"/>
            <a:ext cx="49068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ьной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локализованных пере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зка сигналов МЧ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Группа 32"/>
          <p:cNvGrpSpPr/>
          <p:nvPr/>
        </p:nvGrpSpPr>
        <p:grpSpPr>
          <a:xfrm>
            <a:off x="5580000" y="1635120"/>
            <a:ext cx="3169080" cy="2952720"/>
            <a:chOff x="5580000" y="1635120"/>
            <a:chExt cx="3169080" cy="2952720"/>
          </a:xfrm>
        </p:grpSpPr>
        <p:sp>
          <p:nvSpPr>
            <p:cNvPr id="158" name="Прямоугольник 16"/>
            <p:cNvSpPr/>
            <p:nvPr/>
          </p:nvSpPr>
          <p:spPr>
            <a:xfrm>
              <a:off x="6300000" y="1635120"/>
              <a:ext cx="1728360" cy="180036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"/>
            <p:cNvSpPr/>
            <p:nvPr/>
          </p:nvSpPr>
          <p:spPr>
            <a:xfrm>
              <a:off x="6444000" y="2823480"/>
              <a:ext cx="1440360" cy="468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ранилище роли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558000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AutoShape 4"/>
            <p:cNvCxnSpPr/>
            <p:nvPr/>
          </p:nvCxnSpPr>
          <p:spPr>
            <a:xfrm>
              <a:off x="7740720" y="2426760"/>
              <a:ext cx="1008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Text Box 6"/>
            <p:cNvSpPr/>
            <p:nvPr/>
          </p:nvSpPr>
          <p:spPr>
            <a:xfrm>
              <a:off x="6588000" y="2211120"/>
              <a:ext cx="1152360" cy="4320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плайс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8"/>
            <p:cNvCxnSpPr>
              <a:endCxn id="162" idx="1"/>
            </p:cNvCxnSpPr>
            <p:nvPr/>
          </p:nvCxnSpPr>
          <p:spPr>
            <a:xfrm>
              <a:off x="5652000" y="2426760"/>
              <a:ext cx="936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3"/>
            <p:cNvSpPr/>
            <p:nvPr/>
          </p:nvSpPr>
          <p:spPr>
            <a:xfrm>
              <a:off x="8028720" y="2208240"/>
              <a:ext cx="72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Прямая со стрелкой 13"/>
            <p:cNvCxnSpPr/>
            <p:nvPr/>
          </p:nvCxnSpPr>
          <p:spPr>
            <a:xfrm>
              <a:off x="7164000" y="2643480"/>
              <a:ext cx="1080" cy="18072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166" name="TextBox 17"/>
            <p:cNvSpPr/>
            <p:nvPr/>
          </p:nvSpPr>
          <p:spPr>
            <a:xfrm>
              <a:off x="6372000" y="163512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иртуальный серв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"/>
            <p:cNvSpPr/>
            <p:nvPr/>
          </p:nvSpPr>
          <p:spPr>
            <a:xfrm>
              <a:off x="7092360" y="3436560"/>
              <a:ext cx="93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TP/HT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8"/>
            <p:cNvCxnSpPr/>
            <p:nvPr/>
          </p:nvCxnSpPr>
          <p:spPr>
            <a:xfrm flipV="1">
              <a:off x="7164000" y="3291480"/>
              <a:ext cx="1080" cy="57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9" name="Овал 31"/>
            <p:cNvSpPr/>
            <p:nvPr/>
          </p:nvSpPr>
          <p:spPr>
            <a:xfrm>
              <a:off x="6084000" y="3867840"/>
              <a:ext cx="2160720" cy="72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ерв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CTE 118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Roboto Condensed"/>
              </a:rPr>
              <a:t>Сплайсинг в обла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1285920" y="1911240"/>
            <a:ext cx="65721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Splicer-R1-2a.bmp"/>
          <p:cNvPicPr/>
          <p:nvPr/>
        </p:nvPicPr>
        <p:blipFill>
          <a:blip r:embed="rId1"/>
          <a:stretch/>
        </p:blipFill>
        <p:spPr>
          <a:xfrm>
            <a:off x="6012000" y="3543480"/>
            <a:ext cx="2665440" cy="7603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"/>
          <p:cNvSpPr/>
          <p:nvPr/>
        </p:nvSpPr>
        <p:spPr>
          <a:xfrm>
            <a:off x="777960" y="1382760"/>
            <a:ext cx="790884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rdware 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 for PROFNEX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 input and ASI output for transpor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hernet port for control (Web, SN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TE-118 support for movie and schedule down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rograms into the multi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63720"/>
                <a:tab algn="l" pos="1878120"/>
                <a:tab algn="l" pos="2792520"/>
                <a:tab algn="l" pos="3706920"/>
                <a:tab algn="l" pos="4621320"/>
                <a:tab algn="l" pos="5535720"/>
                <a:tab algn="l" pos="6450120"/>
                <a:tab algn="l" pos="7364520"/>
                <a:tab algn="l" pos="8278920"/>
                <a:tab algn="l" pos="9193320"/>
                <a:tab algn="l" pos="10107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http://www.profitt.ru/IMAGES/profnext1.gif"/>
          <p:cNvPicPr/>
          <p:nvPr/>
        </p:nvPicPr>
        <p:blipFill>
          <a:blip r:embed="rId2"/>
          <a:stretch/>
        </p:blipFill>
        <p:spPr>
          <a:xfrm>
            <a:off x="971640" y="4011480"/>
            <a:ext cx="3384360" cy="617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ward Spli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7176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лай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еры и декод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ук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4" descr="Tux.svg.png"/>
          <p:cNvPicPr/>
          <p:nvPr/>
        </p:nvPicPr>
        <p:blipFill>
          <a:blip r:embed="rId1"/>
          <a:stretch/>
        </p:blipFill>
        <p:spPr>
          <a:xfrm>
            <a:off x="6659640" y="1851120"/>
            <a:ext cx="108720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918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  <a:ea typeface="Roboto Condensed"/>
              </a:rPr>
              <a:t>Клиенты «СофтЛаб-НСК» на карте ми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84720" y="1419120"/>
            <a:ext cx="2880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Наши решения для ТВ-вещ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телевизионного производства используют  более тысячи вещателе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6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ах мир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4240" indent="-174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С нами сотрудничают  более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5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дилеров из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  <a:ea typeface="Roboto Condensed"/>
              </a:rPr>
              <a:t>3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 стран мир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в том числе Китай, Индонезия, Гонконг, Индия, Венгрия, Республика Чехия, Румыния, Малайзия, Тайланд, Вьетна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Roboto Condensed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\\SRV1\tmp\For_Natasha_A\From Tatiana\Карта новая на сайт АНГЛ и РУС\2020 Карта клиентов для Шадрина\WorldMapClientsFlagsOK-01.png"/>
          <p:cNvPicPr/>
          <p:nvPr/>
        </p:nvPicPr>
        <p:blipFill>
          <a:blip r:embed="rId1"/>
          <a:srcRect l="14092" t="7888" r="0" b="0"/>
          <a:stretch/>
        </p:blipFill>
        <p:spPr>
          <a:xfrm>
            <a:off x="250920" y="1281240"/>
            <a:ext cx="5800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Прямоугольник 3"/>
          <p:cNvSpPr/>
          <p:nvPr/>
        </p:nvSpPr>
        <p:spPr>
          <a:xfrm>
            <a:off x="1422360" y="35798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032440" y="357984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скет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Прямоугольник 8"/>
          <p:cNvSpPr/>
          <p:nvPr/>
        </p:nvSpPr>
        <p:spPr>
          <a:xfrm>
            <a:off x="1443600" y="3579840"/>
            <a:ext cx="26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Прямоугольник 10"/>
          <p:cNvSpPr/>
          <p:nvPr/>
        </p:nvSpPr>
        <p:spPr>
          <a:xfrm>
            <a:off x="5075640" y="3579840"/>
            <a:ext cx="26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ейбол «ВФВ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ортивные тит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973880" y="35798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ое п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5926320" y="3579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2400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859280" y="1779480"/>
            <a:ext cx="304812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71760"/>
            <a:ext cx="641844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ройки видеовходов для плат FD722, FD788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чёрн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лог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ам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ыщ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95640" y="2211480"/>
            <a:ext cx="47037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71760"/>
            <a:ext cx="5699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возможность передава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CTE метки со входа на вы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16000" y="2716200"/>
            <a:ext cx="32338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4211640" y="2467080"/>
            <a:ext cx="25401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DConfig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7176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ce -&gt; Show license info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рвис 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ать список лиценз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онка «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564000" y="2284560"/>
            <a:ext cx="5121360" cy="2260440"/>
          </a:xfrm>
          <a:prstGeom prst="rect">
            <a:avLst/>
          </a:prstGeom>
          <a:ln w="0">
            <a:noFill/>
          </a:ln>
        </p:spPr>
      </p:pic>
      <p:sp>
        <p:nvSpPr>
          <p:cNvPr id="82" name="Овал 4"/>
          <p:cNvSpPr/>
          <p:nvPr/>
        </p:nvSpPr>
        <p:spPr>
          <a:xfrm>
            <a:off x="7020000" y="264312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5"/>
          <p:cNvSpPr/>
          <p:nvPr/>
        </p:nvSpPr>
        <p:spPr>
          <a:xfrm>
            <a:off x="7020000" y="35798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3635280" y="2771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8"/>
          <p:cNvSpPr/>
          <p:nvPr/>
        </p:nvSpPr>
        <p:spPr>
          <a:xfrm>
            <a:off x="3635280" y="37242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Air3 (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во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71760"/>
            <a:ext cx="7931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 информации о параметрах SLIni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всплывающих подсказ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бавлена кноп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араметры подсказ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грывать команды расписания по од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s://1.bp.blogspot.com/-xhX1_N9qKHc/X2MajKERJZI/AAAAAAAABWs/wNBKxfSHb0Ijrffe_6r6mkefuOC4RMI0QCLcBGAsYHQ/s526/slini.jpg"/>
          <p:cNvPicPr/>
          <p:nvPr/>
        </p:nvPicPr>
        <p:blipFill>
          <a:blip r:embed="rId1"/>
          <a:stretch/>
        </p:blipFill>
        <p:spPr>
          <a:xfrm>
            <a:off x="6156360" y="1695600"/>
            <a:ext cx="250488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140360" y="2643120"/>
            <a:ext cx="1439640" cy="140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948360" y="3867120"/>
            <a:ext cx="5446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5T11:23:11Z</dcterms:created>
  <dc:creator>Igor G. Tarancev</dc:creator>
  <dc:description/>
  <dc:language>en-US</dc:language>
  <cp:lastModifiedBy>Igor G. Tarancev</cp:lastModifiedBy>
  <dcterms:modified xsi:type="dcterms:W3CDTF">2022-03-10T14:25:43Z</dcterms:modified>
  <cp:revision>227</cp:revision>
  <dc:subject/>
  <dc:title>Слайд 1</dc:title>
</cp:coreProperties>
</file>