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41.png" ContentType="image/png"/>
  <Override PartName="/ppt/media/image4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16B4-5098-40C6-A9C2-05A66AC02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CF80-9750-4D4C-85C8-1053DB4E62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2107-CDC2-4F49-B495-E7B57E6A21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For digital TV there was implemented a relatively new solution – SLSplicer. It inserts ads block into a transport stream by SCTE35 mark without transco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It saves a lot of CPU usage and allows to manage up to 30 digital SD-TV channels in one ser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2E02-C602-435C-98A5-F7D5161CE42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90600" y="685800"/>
            <a:ext cx="6054480" cy="3406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408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Hardware Forward Splicer is a module for PROFNEXT case. One board can plice ADs for all programs into one multiplex. It download movies and schedules from specified FTP folder by SCTE-118 stand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884760" y="8685360"/>
            <a:ext cx="29494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386C93C-8187-457D-9528-C5CF08B3E7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160" y="685800"/>
            <a:ext cx="667368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838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EB3F-2BE6-48FC-8EFE-9086E5795F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7DB4-55B8-41D8-9008-8CC87F61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88EB-93AD-4DF4-B1AD-2D41064B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F929-ADB9-4C72-84AA-97A1B085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370E-41D2-4C20-86AB-0FA5E9BB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158B-0B3A-408F-BDAB-38446DB2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911-A4C3-4D81-8DDB-8B1A57B0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521-5235-48D9-8CD6-373CFBCC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104-6EE5-4C3B-B2DC-9C2DA195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9335-4F7F-4060-8C24-DDDB1F99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D95-3F2C-41E0-87A9-7246F9C1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B3B-957B-4ACF-B89D-AA9FFFAF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7D1-7EA7-4469-9CC6-737AB409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E562-3A74-4538-AC7C-9FAC1B95B8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7" descr="SliderРазработкаForPresentation.png"/>
          <p:cNvPicPr/>
          <p:nvPr/>
        </p:nvPicPr>
        <p:blipFill>
          <a:blip r:embed="rId1"/>
          <a:srcRect l="0" t="9582" r="0" b="0"/>
          <a:stretch/>
        </p:blipFill>
        <p:spPr>
          <a:xfrm>
            <a:off x="826920" y="866880"/>
            <a:ext cx="4608720" cy="1849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9" name="Рисунок 8" descr="LOGO SL OK 2019NOVEMBER-01.png"/>
          <p:cNvPicPr/>
          <p:nvPr/>
        </p:nvPicPr>
        <p:blipFill>
          <a:blip r:embed="rId2"/>
          <a:stretch/>
        </p:blipFill>
        <p:spPr>
          <a:xfrm>
            <a:off x="6227640" y="987480"/>
            <a:ext cx="1708200" cy="165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285876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Roboto Condensed"/>
              </a:rPr>
              <a:t>Новости от компании СофтЛаб-НС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5280" y="3938760"/>
            <a:ext cx="640080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Игорь Таранц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руководитель отдела программных разрабо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Air3 (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во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71760"/>
            <a:ext cx="8075520" cy="25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авлены предупреждения о заглушенных линиях звука и линиях звука с минимальной громк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авлена настройк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Не показывать ошибки выше строки исполн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светка зеленым, если ожидание больш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екун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941400" y="3978360"/>
            <a:ext cx="463860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Air3 (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во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71760"/>
            <a:ext cx="8075520" cy="56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уск исполняемых .bat или .exe фай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403280" y="2139840"/>
            <a:ext cx="3595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Air3 (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вое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71760"/>
            <a:ext cx="6851520" cy="56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истика загруженности при воспроизведе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900000" y="2211480"/>
            <a:ext cx="3781440" cy="237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7164360" y="1692360"/>
            <a:ext cx="1511280" cy="268200"/>
          </a:xfrm>
          <a:prstGeom prst="rect">
            <a:avLst/>
          </a:prstGeom>
          <a:ln w="0">
            <a:noFill/>
          </a:ln>
        </p:spPr>
      </p:pic>
      <p:sp>
        <p:nvSpPr>
          <p:cNvPr id="101" name="Овал 5"/>
          <p:cNvSpPr/>
          <p:nvPr/>
        </p:nvSpPr>
        <p:spPr>
          <a:xfrm>
            <a:off x="7823160" y="1692360"/>
            <a:ext cx="28728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5246280" y="343548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последниe 24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Прямая со стрелкой 8"/>
          <p:cNvCxnSpPr/>
          <p:nvPr/>
        </p:nvCxnSpPr>
        <p:spPr>
          <a:xfrm flipH="1">
            <a:off x="4716000" y="3650760"/>
            <a:ext cx="5040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TrimEd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000" y="1571760"/>
            <a:ext cx="403236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з подробн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истики скорост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ения и декодирова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кретного рол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572000" y="1563840"/>
            <a:ext cx="3774960" cy="2860560"/>
          </a:xfrm>
          <a:prstGeom prst="rect">
            <a:avLst/>
          </a:prstGeom>
          <a:ln w="0">
            <a:noFill/>
          </a:ln>
        </p:spPr>
      </p:pic>
      <p:sp>
        <p:nvSpPr>
          <p:cNvPr id="107" name="Овал 4"/>
          <p:cNvSpPr/>
          <p:nvPr/>
        </p:nvSpPr>
        <p:spPr>
          <a:xfrm>
            <a:off x="5364000" y="4248000"/>
            <a:ext cx="792360" cy="14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MediaInfoSer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920" y="1571760"/>
            <a:ext cx="547344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Открытие» роликов до того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ни потребуются 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Ai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кэширование информаци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724360" y="1563840"/>
            <a:ext cx="28260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т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7176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авлен новый титровальный элемент Web2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основе интернет-браузера Chrome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 поддержкой динамического обновления страниц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авлен новый тип титровального элемента PowerPoint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аза презентаций в формате PPT и PPT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держка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71760"/>
            <a:ext cx="62755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говор 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l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FMPE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блиотеки кодиров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кодирован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l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стирование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l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4" descr="800px-Dolby-Digital.svg.png"/>
          <p:cNvPicPr/>
          <p:nvPr/>
        </p:nvPicPr>
        <p:blipFill>
          <a:blip r:embed="rId1"/>
          <a:stretch/>
        </p:blipFill>
        <p:spPr>
          <a:xfrm>
            <a:off x="6084720" y="2500200"/>
            <a:ext cx="2303640" cy="567000"/>
          </a:xfrm>
          <a:prstGeom prst="rect">
            <a:avLst/>
          </a:prstGeom>
          <a:ln w="0">
            <a:noFill/>
          </a:ln>
        </p:spPr>
      </p:pic>
      <p:grpSp>
        <p:nvGrpSpPr>
          <p:cNvPr id="116" name="Группа 9"/>
          <p:cNvGrpSpPr/>
          <p:nvPr/>
        </p:nvGrpSpPr>
        <p:grpSpPr>
          <a:xfrm>
            <a:off x="826920" y="2355840"/>
            <a:ext cx="720720" cy="287280"/>
            <a:chOff x="826920" y="2355840"/>
            <a:chExt cx="720720" cy="287280"/>
          </a:xfrm>
        </p:grpSpPr>
        <p:sp>
          <p:nvSpPr>
            <p:cNvPr id="117" name="Прямая соединительная линия 5"/>
            <p:cNvSpPr/>
            <p:nvPr/>
          </p:nvSpPr>
          <p:spPr>
            <a:xfrm flipV="1">
              <a:off x="826920" y="2355840"/>
              <a:ext cx="72072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ая соединительная линия 8"/>
            <p:cNvSpPr/>
            <p:nvPr/>
          </p:nvSpPr>
          <p:spPr>
            <a:xfrm>
              <a:off x="826920" y="2355840"/>
              <a:ext cx="72072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StreamCap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71760"/>
            <a:ext cx="577044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льно улучшено качество записи для высоких разреш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ано сжатие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s://www.softlab.tv/rus/forward/images/streamcapture5.gif"/>
          <p:cNvPicPr/>
          <p:nvPr/>
        </p:nvPicPr>
        <p:blipFill>
          <a:blip r:embed="rId1"/>
          <a:stretch/>
        </p:blipFill>
        <p:spPr>
          <a:xfrm>
            <a:off x="6372360" y="1708200"/>
            <a:ext cx="25207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ward4Sk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7176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ем звонков из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yp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через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D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4" descr="1200px-Skype_logo_(2019–present).svg.png"/>
          <p:cNvPicPr/>
          <p:nvPr/>
        </p:nvPicPr>
        <p:blipFill>
          <a:blip r:embed="rId1"/>
          <a:stretch/>
        </p:blipFill>
        <p:spPr>
          <a:xfrm>
            <a:off x="1332000" y="2355840"/>
            <a:ext cx="792000" cy="798480"/>
          </a:xfrm>
          <a:prstGeom prst="rect">
            <a:avLst/>
          </a:prstGeom>
          <a:ln w="0">
            <a:noFill/>
          </a:ln>
        </p:spPr>
      </p:pic>
      <p:cxnSp>
        <p:nvCxnSpPr>
          <p:cNvPr id="125" name="Прямая со стрелкой 5"/>
          <p:cNvCxnSpPr/>
          <p:nvPr/>
        </p:nvCxnSpPr>
        <p:spPr>
          <a:xfrm>
            <a:off x="2340000" y="2715840"/>
            <a:ext cx="7200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26" name="Рисунок 8" descr="1200x630wa_1.png"/>
          <p:cNvPicPr/>
          <p:nvPr/>
        </p:nvPicPr>
        <p:blipFill>
          <a:blip r:embed="rId2"/>
          <a:srcRect l="32138" t="15315" r="32138" b="15315"/>
          <a:stretch/>
        </p:blipFill>
        <p:spPr>
          <a:xfrm>
            <a:off x="3276720" y="2355840"/>
            <a:ext cx="706320" cy="720720"/>
          </a:xfrm>
          <a:prstGeom prst="rect">
            <a:avLst/>
          </a:prstGeom>
          <a:ln w="0">
            <a:noFill/>
          </a:ln>
        </p:spPr>
      </p:pic>
      <p:cxnSp>
        <p:nvCxnSpPr>
          <p:cNvPr id="127" name="Прямая со стрелкой 9"/>
          <p:cNvCxnSpPr/>
          <p:nvPr/>
        </p:nvCxnSpPr>
        <p:spPr>
          <a:xfrm>
            <a:off x="4211640" y="2715840"/>
            <a:ext cx="7214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28" name="Рисунок 10" descr="krugl_706.png"/>
          <p:cNvPicPr/>
          <p:nvPr/>
        </p:nvPicPr>
        <p:blipFill>
          <a:blip r:embed="rId3"/>
          <a:stretch/>
        </p:blipFill>
        <p:spPr>
          <a:xfrm>
            <a:off x="5148360" y="221148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1" descr="Assignment.jpg"/>
          <p:cNvPicPr/>
          <p:nvPr/>
        </p:nvPicPr>
        <p:blipFill>
          <a:blip r:embed="rId4"/>
          <a:stretch/>
        </p:blipFill>
        <p:spPr>
          <a:xfrm>
            <a:off x="1908000" y="3363840"/>
            <a:ext cx="3672000" cy="13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Plantronics Entera BNC — профессиональная телефонная гарнитура"/>
          <p:cNvPicPr/>
          <p:nvPr/>
        </p:nvPicPr>
        <p:blipFill>
          <a:blip r:embed="rId1"/>
          <a:stretch/>
        </p:blipFill>
        <p:spPr>
          <a:xfrm>
            <a:off x="3132000" y="19414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2"/>
          <a:srcRect l="0" t="25208" r="0" b="25208"/>
          <a:stretch/>
        </p:blipFill>
        <p:spPr>
          <a:xfrm>
            <a:off x="2556000" y="3308400"/>
            <a:ext cx="1949400" cy="965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ward4Sk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345960" y="1579680"/>
            <a:ext cx="3073680" cy="17287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829800" y="3525840"/>
            <a:ext cx="9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-S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214600" y="352584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вы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-S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4"/>
          <a:stretch/>
        </p:blipFill>
        <p:spPr>
          <a:xfrm>
            <a:off x="7812000" y="7002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5"/>
          <a:stretch/>
        </p:blipFill>
        <p:spPr>
          <a:xfrm>
            <a:off x="4427640" y="1579680"/>
            <a:ext cx="3092400" cy="1730160"/>
          </a:xfrm>
          <a:prstGeom prst="rect">
            <a:avLst/>
          </a:prstGeom>
          <a:ln w="0">
            <a:noFill/>
          </a:ln>
        </p:spPr>
      </p:pic>
      <p:sp>
        <p:nvSpPr>
          <p:cNvPr id="138" name="Стрелка вправо 12"/>
          <p:cNvSpPr/>
          <p:nvPr/>
        </p:nvSpPr>
        <p:spPr>
          <a:xfrm>
            <a:off x="1971720" y="3741840"/>
            <a:ext cx="503280" cy="2156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право 13"/>
          <p:cNvSpPr/>
          <p:nvPr/>
        </p:nvSpPr>
        <p:spPr>
          <a:xfrm>
            <a:off x="4562640" y="3741840"/>
            <a:ext cx="504720" cy="215640"/>
          </a:xfrm>
          <a:prstGeom prst="rightArrow">
            <a:avLst>
              <a:gd name="adj1" fmla="val 50000"/>
              <a:gd name="adj2" fmla="val 501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Группа 37"/>
          <p:cNvGrpSpPr/>
          <p:nvPr/>
        </p:nvGrpSpPr>
        <p:grpSpPr>
          <a:xfrm>
            <a:off x="2874960" y="4172040"/>
            <a:ext cx="1192320" cy="631800"/>
            <a:chOff x="2874960" y="4172040"/>
            <a:chExt cx="1192320" cy="631800"/>
          </a:xfrm>
        </p:grpSpPr>
        <p:sp>
          <p:nvSpPr>
            <p:cNvPr id="141" name="Облако 16"/>
            <p:cNvSpPr/>
            <p:nvPr/>
          </p:nvSpPr>
          <p:spPr>
            <a:xfrm>
              <a:off x="2874960" y="4172040"/>
              <a:ext cx="1192320" cy="631800"/>
            </a:xfrm>
            <a:custGeom>
              <a:avLst/>
              <a:gdLst>
                <a:gd name="textAreaLeft" fmla="*/ 164160 w 1192320"/>
                <a:gd name="textAreaRight" fmla="*/ 943200 w 1192320"/>
                <a:gd name="textAreaTop" fmla="*/ 95400 h 631800"/>
                <a:gd name="textAreaBottom" fmla="*/ 507240 h 6318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43ff9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9"/>
            <p:cNvSpPr/>
            <p:nvPr/>
          </p:nvSpPr>
          <p:spPr>
            <a:xfrm>
              <a:off x="2994480" y="4251240"/>
              <a:ext cx="95328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Интерне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2" descr=""/>
          <p:cNvPicPr/>
          <p:nvPr/>
        </p:nvPicPr>
        <p:blipFill>
          <a:blip r:embed="rId6"/>
          <a:stretch/>
        </p:blipFill>
        <p:spPr>
          <a:xfrm>
            <a:off x="3419640" y="350820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ртивные тит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5254920" y="357984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ккей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H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1618200" y="357984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ккей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85928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122400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ward4Sk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7176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 входящих звонка Skype выдаются на независимы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D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ых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ждому абонент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yp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казывается на выбор один из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D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ход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зависимые каналы зву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каждого Skype-соеди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втором мониторе отображаются все текущие звон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рхнизкая задерж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ункция запи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держка входов и выходов для NDI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сплатная техническая поддержка через портал для кли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812000" y="7002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RT (Secure Reliable Transpor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71760"/>
            <a:ext cx="519444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авк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рез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ход: сервер или кли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ход: только кли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 ОТР: Москва 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се регио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ст: Новосибирск 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били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Содержимое 3" descr="SRT Alliance_logo_black.png"/>
          <p:cNvPicPr/>
          <p:nvPr/>
        </p:nvPicPr>
        <p:blipFill>
          <a:blip r:embed="rId1"/>
          <a:stretch/>
        </p:blipFill>
        <p:spPr>
          <a:xfrm>
            <a:off x="5796000" y="2427120"/>
            <a:ext cx="295272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вард Сплайс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28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тавка рекламных бло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тавка живого видео (протестировано с ВГТРК и РТРС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бота с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I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ли с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P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потоками (для кабельщиков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рсия для МЧС (врезка картинки с живым звуком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0">
              <a:spcBef>
                <a:spcPts val="286"/>
              </a:spcBef>
              <a:spcAft>
                <a:spcPts val="28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кламный сервер для поддержк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TE-11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  <a:ea typeface="Roboto Condensed"/>
              </a:rPr>
              <a:t>Врезка в цифровом Т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658800" y="1571760"/>
            <a:ext cx="7826400" cy="3022560"/>
          </a:xfrm>
          <a:prstGeom prst="rect">
            <a:avLst/>
          </a:prstGeom>
          <a:ln w="0">
            <a:noFill/>
          </a:ln>
        </p:spPr>
      </p:pic>
      <p:sp>
        <p:nvSpPr>
          <p:cNvPr id="154" name="Скругленный прямоугольник 4"/>
          <p:cNvSpPr/>
          <p:nvPr/>
        </p:nvSpPr>
        <p:spPr>
          <a:xfrm>
            <a:off x="6516720" y="3003480"/>
            <a:ext cx="792000" cy="59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 Black"/>
              </a:rPr>
              <a:t>Forward Splic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  <a:ea typeface="Roboto Condensed"/>
              </a:rPr>
              <a:t>Сплайсинг в обла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71760"/>
            <a:ext cx="49068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зка локальной рекла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зка локализованных пере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зка сигналов МЧ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Группа 32"/>
          <p:cNvGrpSpPr/>
          <p:nvPr/>
        </p:nvGrpSpPr>
        <p:grpSpPr>
          <a:xfrm>
            <a:off x="5580000" y="1635120"/>
            <a:ext cx="3169080" cy="2952720"/>
            <a:chOff x="5580000" y="1635120"/>
            <a:chExt cx="3169080" cy="2952720"/>
          </a:xfrm>
        </p:grpSpPr>
        <p:sp>
          <p:nvSpPr>
            <p:cNvPr id="158" name="Прямоугольник 16"/>
            <p:cNvSpPr/>
            <p:nvPr/>
          </p:nvSpPr>
          <p:spPr>
            <a:xfrm>
              <a:off x="6300000" y="1635120"/>
              <a:ext cx="1728360" cy="180036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"/>
            <p:cNvSpPr/>
            <p:nvPr/>
          </p:nvSpPr>
          <p:spPr>
            <a:xfrm>
              <a:off x="6444000" y="2823480"/>
              <a:ext cx="1440360" cy="46800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Хранилище ролик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3"/>
            <p:cNvSpPr/>
            <p:nvPr/>
          </p:nvSpPr>
          <p:spPr>
            <a:xfrm>
              <a:off x="5580000" y="2208240"/>
              <a:ext cx="72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P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AutoShape 4"/>
            <p:cNvCxnSpPr/>
            <p:nvPr/>
          </p:nvCxnSpPr>
          <p:spPr>
            <a:xfrm>
              <a:off x="7740720" y="2426760"/>
              <a:ext cx="1008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" name="Text Box 6"/>
            <p:cNvSpPr/>
            <p:nvPr/>
          </p:nvSpPr>
          <p:spPr>
            <a:xfrm>
              <a:off x="6588000" y="2211120"/>
              <a:ext cx="1152360" cy="43200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плайс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8"/>
            <p:cNvCxnSpPr>
              <a:endCxn id="162" idx="1"/>
            </p:cNvCxnSpPr>
            <p:nvPr/>
          </p:nvCxnSpPr>
          <p:spPr>
            <a:xfrm>
              <a:off x="5652000" y="2426760"/>
              <a:ext cx="936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4" name="Text Box 3"/>
            <p:cNvSpPr/>
            <p:nvPr/>
          </p:nvSpPr>
          <p:spPr>
            <a:xfrm>
              <a:off x="8028720" y="2208240"/>
              <a:ext cx="72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P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Прямая со стрелкой 13"/>
            <p:cNvCxnSpPr/>
            <p:nvPr/>
          </p:nvCxnSpPr>
          <p:spPr>
            <a:xfrm>
              <a:off x="7164000" y="2643480"/>
              <a:ext cx="1080" cy="1807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166" name="TextBox 17"/>
            <p:cNvSpPr/>
            <p:nvPr/>
          </p:nvSpPr>
          <p:spPr>
            <a:xfrm>
              <a:off x="6372000" y="1635120"/>
              <a:ext cx="158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иртуальный серв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"/>
            <p:cNvSpPr/>
            <p:nvPr/>
          </p:nvSpPr>
          <p:spPr>
            <a:xfrm>
              <a:off x="7092360" y="3436560"/>
              <a:ext cx="93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TP/HT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8"/>
            <p:cNvCxnSpPr/>
            <p:nvPr/>
          </p:nvCxnSpPr>
          <p:spPr>
            <a:xfrm flipV="1">
              <a:off x="7164000" y="3291480"/>
              <a:ext cx="1080" cy="576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69" name="Овал 31"/>
            <p:cNvSpPr/>
            <p:nvPr/>
          </p:nvSpPr>
          <p:spPr>
            <a:xfrm>
              <a:off x="6084000" y="3867840"/>
              <a:ext cx="2160720" cy="720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Серв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CTE 118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Roboto Condensed"/>
              </a:rPr>
              <a:t>Сплайсинг в обла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285920" y="1911240"/>
            <a:ext cx="65721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3" descr="Splicer-R1-2a.bmp"/>
          <p:cNvPicPr/>
          <p:nvPr/>
        </p:nvPicPr>
        <p:blipFill>
          <a:blip r:embed="rId1"/>
          <a:stretch/>
        </p:blipFill>
        <p:spPr>
          <a:xfrm>
            <a:off x="6012000" y="3543480"/>
            <a:ext cx="2665440" cy="7603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"/>
          <p:cNvSpPr/>
          <p:nvPr/>
        </p:nvSpPr>
        <p:spPr>
          <a:xfrm>
            <a:off x="777960" y="1382760"/>
            <a:ext cx="7908840" cy="29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63720"/>
                <a:tab algn="l" pos="1878120"/>
                <a:tab algn="l" pos="2792520"/>
                <a:tab algn="l" pos="3706920"/>
                <a:tab algn="l" pos="4621320"/>
                <a:tab algn="l" pos="5535720"/>
                <a:tab algn="l" pos="6450120"/>
                <a:tab algn="l" pos="7364520"/>
                <a:tab algn="l" pos="8278920"/>
                <a:tab algn="l" pos="9193320"/>
                <a:tab algn="l" pos="10107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ardware 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878120"/>
                <a:tab algn="l" pos="2792520"/>
                <a:tab algn="l" pos="3706920"/>
                <a:tab algn="l" pos="4621320"/>
                <a:tab algn="l" pos="5535720"/>
                <a:tab algn="l" pos="6450120"/>
                <a:tab algn="l" pos="7364520"/>
                <a:tab algn="l" pos="8278920"/>
                <a:tab algn="l" pos="9193320"/>
                <a:tab algn="l" pos="1010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 for PROFNEX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878120"/>
                <a:tab algn="l" pos="2792520"/>
                <a:tab algn="l" pos="3706920"/>
                <a:tab algn="l" pos="4621320"/>
                <a:tab algn="l" pos="5535720"/>
                <a:tab algn="l" pos="6450120"/>
                <a:tab algn="l" pos="7364520"/>
                <a:tab algn="l" pos="8278920"/>
                <a:tab algn="l" pos="9193320"/>
                <a:tab algn="l" pos="1010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I input and ASI output for transpor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878120"/>
                <a:tab algn="l" pos="2792520"/>
                <a:tab algn="l" pos="3706920"/>
                <a:tab algn="l" pos="4621320"/>
                <a:tab algn="l" pos="5535720"/>
                <a:tab algn="l" pos="6450120"/>
                <a:tab algn="l" pos="7364520"/>
                <a:tab algn="l" pos="8278920"/>
                <a:tab algn="l" pos="9193320"/>
                <a:tab algn="l" pos="1010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hernet port for control (Web, SN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878120"/>
                <a:tab algn="l" pos="2792520"/>
                <a:tab algn="l" pos="3706920"/>
                <a:tab algn="l" pos="4621320"/>
                <a:tab algn="l" pos="5535720"/>
                <a:tab algn="l" pos="6450120"/>
                <a:tab algn="l" pos="7364520"/>
                <a:tab algn="l" pos="8278920"/>
                <a:tab algn="l" pos="9193320"/>
                <a:tab algn="l" pos="1010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TE-118 support for movie and schedule down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878120"/>
                <a:tab algn="l" pos="2792520"/>
                <a:tab algn="l" pos="3706920"/>
                <a:tab algn="l" pos="4621320"/>
                <a:tab algn="l" pos="5535720"/>
                <a:tab algn="l" pos="6450120"/>
                <a:tab algn="l" pos="7364520"/>
                <a:tab algn="l" pos="8278920"/>
                <a:tab algn="l" pos="9193320"/>
                <a:tab algn="l" pos="1010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rograms into the multi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878120"/>
                <a:tab algn="l" pos="2792520"/>
                <a:tab algn="l" pos="3706920"/>
                <a:tab algn="l" pos="4621320"/>
                <a:tab algn="l" pos="5535720"/>
                <a:tab algn="l" pos="6450120"/>
                <a:tab algn="l" pos="7364520"/>
                <a:tab algn="l" pos="8278920"/>
                <a:tab algn="l" pos="9193320"/>
                <a:tab algn="l" pos="10107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http://www.profitt.ru/IMAGES/profnext1.gif"/>
          <p:cNvPicPr/>
          <p:nvPr/>
        </p:nvPicPr>
        <p:blipFill>
          <a:blip r:embed="rId2"/>
          <a:stretch/>
        </p:blipFill>
        <p:spPr>
          <a:xfrm>
            <a:off x="971640" y="4011480"/>
            <a:ext cx="3384360" cy="6177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ward Splic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7176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лайс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деры и декоде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мукс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Рисунок 4" descr="Tux.svg.png"/>
          <p:cNvPicPr/>
          <p:nvPr/>
        </p:nvPicPr>
        <p:blipFill>
          <a:blip r:embed="rId1"/>
          <a:stretch/>
        </p:blipFill>
        <p:spPr>
          <a:xfrm>
            <a:off x="6659640" y="1851120"/>
            <a:ext cx="108720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918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  <a:ea typeface="Roboto Condensed"/>
              </a:rPr>
              <a:t>Клиенты «СофтЛаб-НСК» на карте ми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084720" y="1419120"/>
            <a:ext cx="2880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4240" indent="-174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Наши решения для ТВ-веща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и телевизионного производства используют  более тысячи вещателе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в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Roboto Condensed"/>
              </a:rPr>
              <a:t>65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 странах мир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4240" indent="-174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С нами сотрудничают  более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Roboto Condensed"/>
              </a:rPr>
              <a:t>5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 дилеров из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Roboto Condensed"/>
              </a:rPr>
              <a:t>3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 стран мир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в том числе Китай, Индонезия, Гонконг, Индия, Венгрия, Республика Чехия, Румыния, Малайзия, Тайланд, Вьетна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\\SRV1\tmp\For_Natasha_A\From Tatiana\Карта новая на сайт АНГЛ и РУС\2020 Карта клиентов для Шадрина\WorldMapClientsFlagsOK-01.png"/>
          <p:cNvPicPr/>
          <p:nvPr/>
        </p:nvPicPr>
        <p:blipFill>
          <a:blip r:embed="rId1"/>
          <a:srcRect l="14092" t="7888" r="0" b="0"/>
          <a:stretch/>
        </p:blipFill>
        <p:spPr>
          <a:xfrm>
            <a:off x="250920" y="1281240"/>
            <a:ext cx="5800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ртивные тит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22400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Прямоугольник 3"/>
          <p:cNvSpPr/>
          <p:nvPr/>
        </p:nvSpPr>
        <p:spPr>
          <a:xfrm>
            <a:off x="1422360" y="357984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скетбол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5032440" y="357984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скетбол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485928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ртивные тит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2400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Прямоугольник 8"/>
          <p:cNvSpPr/>
          <p:nvPr/>
        </p:nvSpPr>
        <p:spPr>
          <a:xfrm>
            <a:off x="1443600" y="3579840"/>
            <a:ext cx="26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ейбол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485928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Прямоугольник 10"/>
          <p:cNvSpPr/>
          <p:nvPr/>
        </p:nvSpPr>
        <p:spPr>
          <a:xfrm>
            <a:off x="5075640" y="3579840"/>
            <a:ext cx="26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ейбол «ВФВ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ртивные тит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1973880" y="357984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ное по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0"/>
          <p:cNvSpPr/>
          <p:nvPr/>
        </p:nvSpPr>
        <p:spPr>
          <a:xfrm>
            <a:off x="5926320" y="35798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кк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22400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485928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DConfig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571760"/>
            <a:ext cx="641844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ройки видеовходов для плат FD722, FD788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чёрног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белог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мм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ыще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995640" y="2211480"/>
            <a:ext cx="4703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DConfig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571760"/>
            <a:ext cx="569916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авлена возможность передава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CTE метки со входа на вы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116000" y="2716200"/>
            <a:ext cx="3233880" cy="201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4211640" y="2467080"/>
            <a:ext cx="25401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DConfig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7176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ice -&gt; Show license inf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рвис 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зать список лиценз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онка 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564000" y="2284560"/>
            <a:ext cx="5121360" cy="2260440"/>
          </a:xfrm>
          <a:prstGeom prst="rect">
            <a:avLst/>
          </a:prstGeom>
          <a:ln w="0">
            <a:noFill/>
          </a:ln>
        </p:spPr>
      </p:pic>
      <p:sp>
        <p:nvSpPr>
          <p:cNvPr id="82" name="Овал 4"/>
          <p:cNvSpPr/>
          <p:nvPr/>
        </p:nvSpPr>
        <p:spPr>
          <a:xfrm>
            <a:off x="7020000" y="2643120"/>
            <a:ext cx="216000" cy="14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5"/>
          <p:cNvSpPr/>
          <p:nvPr/>
        </p:nvSpPr>
        <p:spPr>
          <a:xfrm>
            <a:off x="7020000" y="3579840"/>
            <a:ext cx="216000" cy="14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3635280" y="2771640"/>
            <a:ext cx="28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8"/>
          <p:cNvSpPr/>
          <p:nvPr/>
        </p:nvSpPr>
        <p:spPr>
          <a:xfrm>
            <a:off x="3635280" y="372420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Air3 (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во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571760"/>
            <a:ext cx="793116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з информации о параметрах SLIni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 всплывающих подсказ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авлена кнопк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араметры подсказ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грывать команды расписания по од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s://1.bp.blogspot.com/-xhX1_N9qKHc/X2MajKERJZI/AAAAAAAABWs/wNBKxfSHb0Ijrffe_6r6mkefuOC4RMI0QCLcBGAsYHQ/s526/slini.jpg"/>
          <p:cNvPicPr/>
          <p:nvPr/>
        </p:nvPicPr>
        <p:blipFill>
          <a:blip r:embed="rId1"/>
          <a:stretch/>
        </p:blipFill>
        <p:spPr>
          <a:xfrm>
            <a:off x="6156360" y="1695600"/>
            <a:ext cx="2504880" cy="876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140360" y="2643120"/>
            <a:ext cx="1439640" cy="1409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6948360" y="3867120"/>
            <a:ext cx="5446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5T11:23:11Z</dcterms:created>
  <dc:creator>Igor G. Tarancev</dc:creator>
  <dc:description/>
  <dc:language>en-US</dc:language>
  <cp:lastModifiedBy>Igor G. Tarancev</cp:lastModifiedBy>
  <dcterms:modified xsi:type="dcterms:W3CDTF">2022-03-10T14:25:43Z</dcterms:modified>
  <cp:revision>227</cp:revision>
  <dc:subject/>
  <dc:title>Слайд 1</dc:title>
</cp:coreProperties>
</file>