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F0F1-DBD3-41E0-B681-2F1B06D82E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D34B-D1D4-48DD-8940-229B2BAED5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ие кан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ётчик времени таймау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отип кан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на превью для входного и выходного сигна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йл, который используется для замены рекла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конки текущего состояния программы (в левом нижнем углу представления кана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нопки управления «вырезкой» рекламы (в правом нижнем углу представления кана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366F-C999-4B39-8F67-0190D0132B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ие кан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ётчик времени таймау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отип кан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на превью для входного и выходного сигна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йл, который используется для замены рекла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конки текущего состояния программы (в левом нижнем углу представления кана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нопки управления «вырезкой» рекламы (в правом нижнем углу представления кана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F884-9DD3-420D-A91B-72F3FAE82C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ие кан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ётчик времени таймау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йл, который используется для замены рекла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конки текущего состояния программы (в левом нижнем углу представления кана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нопки управления «вырезкой» рекламы (в правом нижнем углу представления кана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1A3E-A799-4AF0-8022-7BEAC49427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еоплеер с облегчённым функционалом для решения задачи «вырезки» рекламных блоков в соответствии с новыми поправками в закон о рекламе в Республике Казахст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E0EC-B6A5-4A96-920E-790771E279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ырезка» рекламы может происходить как в ручном режиме (по действию оператора эфира, по внешнему GPI-событию), так и в автоматическом (по различным меткам - DTMF, SCTE35, VITC, звуковая или видео отбивка и т.д.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1D00-852E-4483-A7A0-189C24AA2E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гут быть использованы различные типы сигналов - IP, ASI, CVBS, YUV, YC, RGB, SD SDI, HD SD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F1AE-25FC-4426-AC22-27A5D0295B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 приложение SLAdsRemover будет позволять работать с несколькими каналами «вырезки» рекла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каналов, которые можно обработать на одном видеосервере зависит от производительности системы, типа сжатия сигнала (AVC/MPEG2 для IP/ASI потоков) и его разрешения (SD/HD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а работает по архитектуре «клиент-сервер». Это означает, что закрытие окна программы не прерывает процесс замещения рекла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1C3C-DAA8-4DF5-B3BF-1DC750CE07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ика работы прилож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ся начало рекламного блока (по команде оператора или по метке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ускается воспроизведение ролика-видеозаставки (в зацикленном режиме) или статичной картинки (графический файл-заставк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ход на ретранслируемый сигнал может происходить по команде оператора, по метке или по истечению предварительно заданного промежутка времени (таймаут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A044-6F21-46CD-AF06-AF866EA0EE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автоматизации «вырезки» рекламы по меткам без участия оператора эфира может быть использовано ПО AutoDetect. Для определения начала и конца рекламного блока могут использоваться следующие типы меток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TMF-мет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овые фрагменты заставок рекламного блока (джингл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еофрагменты заставок рекламного бло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я «23-й строки» (специальный сигнал в первой видимой строке изображения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ки в VITC (в видимой части изображения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ки в транспортном потоке (по стандарту SCTE 35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ки, передаваемые в телетексте (X31 Teletext, Packet-31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а вашем телеканале отсутствуют, например, DTMF-метки, то всегда можно использовать аудио- или видеофрагмент рекламной застав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лижайшем будущем планируется добавить способ распознавания по логотипу (отсутствие на рекла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6DA4-8B53-4E7E-BA49-513F71F7FA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став общей лицензии плагина SLAdsRemover для одного канала входят следующие лицензи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обственно «вырезку» рекламы (работа приложения SLAdsRemove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AutoDetect (вырезка по различным меткам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кодер (формирование IP-поток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использование плагина SLIpInputLayer (более удобный способ программного предпросмотра входного потока, возможность записи входного IP-потока в файлы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FF89-2337-4604-B99F-2033302344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ED97-9144-477C-8A95-38D6ABCDF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D436-260C-49CF-BA91-023BAB59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7D0E-BBA1-43AD-989D-A7C959310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1E8D-A4E3-4695-803A-B7C5DDB17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EB2F-D2B4-4706-B8AD-7D1E87FC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5395-C3E7-488E-A114-9AC0966E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F946-F398-4517-A0F9-DEB7CC0A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8A15-BD85-4CA9-91F8-0A5E7A8F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8A84-C519-4A8B-A752-826BB83D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5A8B-FF69-4FE6-922B-A8F1223A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F604-0894-459F-B1F9-96C0022C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FAF4-852D-43E8-AB6B-BB830363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A914-D1A3-45F2-8020-ED9FAA00AF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SLAdsRemo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Вырезка рекла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иентское П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ного каналов в одном ок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сколько колонок для показа кана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пактное представление каналов – только необходимая информ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ширенное представление каналов – полная информация о работе кан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сширенное представ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78199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сширенное представ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вание кан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чётчик времени таймау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оготип кан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но превью для входного сигн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но превью для выходного сигн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йл для замены рекла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конки состояния програм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нопки управ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мпактное представ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3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20728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мпактное представ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вание кан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чётчик времени таймау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йл для замены рекла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конки состояния програм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нопки управ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SLAdsRemov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блегченное решение для вырезки рекламных блоков в соответствии с поправками в закон о реклам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ырезка нескольких каналов на одном сервер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рхитектура клиент-сервер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ырезка вручную либо в автоматическом режим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ддержка всех типов телевизионных сигнало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правление вырезк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ручную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 команде оператора эфир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 внешнему GPI-событию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автоматическом режиме по различным меткам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DTMF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SCTE35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VITC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звуковая отбивка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идео отбив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ипы сигна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решение сигнал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ассическое Т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VBS, YUV, YC, RG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SD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ифровое Т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IP, AS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ногокана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сколько каналов вырезки на одном серве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ичество каналов зависит от производительности системы, типа сжатия и разрешения сигн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рхитектура клиент-сервер: закрытие окна программы не прерывает замещение рекла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огика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ход в реклам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команде оператор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мет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произведение видеозаставки или статичной картин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ход из рекламы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команде оператор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метк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истечению таймау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toDet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автоматизации вырезки могут использоваться следующие типы меток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DTMF-мет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вуковые фрагме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идеофрагме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хнология «23-й строки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ки в VI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ки SCTE-3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ки в телетексте (X31 Teletext, Packet-31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став лицензии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AdsRemo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собственно вырезку рекла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ПО AutoDet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кодирование IP-пот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программный предпросмотр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ходного пот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возможность записи входного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IP-потока в фай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иентское П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984560" cy="27752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"/>
          <p:cNvPicPr/>
          <p:nvPr/>
        </p:nvPicPr>
        <p:blipFill>
          <a:blip r:embed="rId2"/>
          <a:stretch/>
        </p:blipFill>
        <p:spPr>
          <a:xfrm>
            <a:off x="3635280" y="4365720"/>
            <a:ext cx="506592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7T10:13:33Z</dcterms:created>
  <dc:creator>Igor G. Tarancev</dc:creator>
  <dc:description/>
  <dc:language>en-US</dc:language>
  <cp:lastModifiedBy>Igor G. Tarancev</cp:lastModifiedBy>
  <dcterms:modified xsi:type="dcterms:W3CDTF">2022-03-10T14:09:57Z</dcterms:modified>
  <cp:revision>18</cp:revision>
  <dc:subject/>
  <dc:title>SLAdsRemover</dc:title>
</cp:coreProperties>
</file>