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FB2-4CAC-4B37-AE0E-2659148EF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9D2-3911-49D2-9A72-BA43A92874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DEBF-28B3-46A3-AB72-8FB036D03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567-0587-439C-987D-0C97349D6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C1E-23DE-4AB4-90D8-96ABFB06D7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плеер с облегчённым функционалом для решения задачи «вырезки» рекламных блоков в соответствии с новыми поправками в закон о рекламе в Республике Казах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F4C5-0242-4B23-A1AC-45875A9487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резка» рекламы может происходить как в ручном режиме (по действию оператора эфира, по внешнему GPI-событию), так и в автоматическом (по различным меткам - DTMF, SCTE35, VITC, звуковая или видео отбивка и т.д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731C-7D28-4598-B464-0C4A5A5BF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использованы различные типы сигналов - IP, ASI, CVBS, YUV, YC, RGB, SD SDI, HD S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0B2-8491-4327-9139-C3833A30A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приложение SLAdsRemover будет позволять работать с несколькими каналами «вырезки»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каналов, которые можно обработать на одном видеосервере зависит от производительности системы, типа сжатия сигнала (AVC/MPEG2 для IP/ASI потоков) и его разрешения (SD/H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работает по архитектуре «клиент-сервер». Это означает, что закрытие окна программы не прерывает процесс замещения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D45-B7F9-4DD7-BDA0-2AACAC9D9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ка работы прилож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начало рекламного блока (по команде оператора или по метк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ускается воспроизведение ролика-видеозаставки (в зацикленном режиме) или статичной картинки (графический файл-заста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на ретранслируемый сигнал может происходить по команде оператора, по метке или по истечению предварительно заданного промежутка времени (таймау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34BC-DB73-47A9-8B8A-C2B5459B1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автоматизации «вырезки» рекламы по меткам без участия оператора эфира может быть использовано ПО AutoDetect. Для определения начала и конца рекламного блока могут использоваться следующие типы мето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фрагменты заставок рекламного блока (джинг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фрагменты заставок рекламного бл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«23-й строки» (специальный сигнал в первой видимой строке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VITC (в видимой части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транспортном потоке (по стандарту SCTE 3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, передаваемые в телетексте (X31 Teletext, Packet-3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вашем телеканале отсутствуют, например, DTMF-метки, то всегда можно использовать аудио- или видеофрагмент рекламной заста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ижайшем будущем планируется добавить способ распознавания по логотипу (отсутствие на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087-2531-48FF-881F-CAF5C8D9E4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бщей лицензии плагина SLAdsRemover для одного канала входят следующие лиценз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 «вырезку» рекламы (работа приложения SLAdsRemov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AutoDetect (вырезка по различным метка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кодер (формирование IP-пото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использование плагина SLIpInputLayer (более удобный способ программного предпросмотра входного потока, возможность записи входного IP-потока в файл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B420-6905-4224-AB43-8B048854C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0CE-5B63-4062-BFC5-73C96281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A5D-F0B6-455C-BDA7-53E92725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7D8-74BA-45BE-9D52-897C00E0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CF8-B249-4A5C-AA5C-1E4775B2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490-8617-4EB8-A148-041D125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F66-0059-492F-8881-2449F69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C97-0672-434D-A141-89CC491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FC3-0946-4FB0-B3F3-FE224D0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E70-454A-4FA2-9FDF-EB60B9E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27-1969-4326-8EF3-1DE7D3A5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867-4AAF-4F63-9630-695C620F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DB5-DB2C-4F49-A2A7-9CD7790C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187-F51D-483F-B014-B4730F5CE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резка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каналов в одном ок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олонок для показа кан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актное представление каналов – только необходимая 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ное представление каналов – полная информация о работ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19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ы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егченное решение для вырезки рекламных блоков в соответствии с поправками в закон о рекла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нескольких каналов на одном серве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хитектура клиент-серве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вручную либо в автоматическом режи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ка всех типов телевизионных сигна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вление вырез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ную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команде оператора эфи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внешнему GPI-событ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втоматическом режиме по различным метка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TMF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CTE35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VITC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вуковая отбивк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део отби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иг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ешение сигна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ческ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VBS, YUV, YC,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ов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P, 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кан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аналов вырезки на одном серв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каналов зависит от производительности системы, типа сжатия и разрешения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хитектура клиент-сервер: закрытие окна программы не прерывает замещение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ик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 в рекла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 видеозаставки или статичной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из реклам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истечению таймау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Det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автоматизации вырезки могут использоваться следующие типы мет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уковые 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«23-й строк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VI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SCTE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телетексте (X31 Teletext, Packet-3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лицензи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бственно вырезку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О AutoDe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дирование IP-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граммный предпросмотр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ного 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зможность записи вход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IP-потока в фай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984560" cy="2775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3635280" y="4365720"/>
            <a:ext cx="50659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7T10:13:33Z</dcterms:created>
  <dc:creator>Igor G. Tarancev</dc:creator>
  <dc:description/>
  <dc:language>en-US</dc:language>
  <cp:lastModifiedBy>Igor G. Tarancev</cp:lastModifiedBy>
  <dcterms:modified xsi:type="dcterms:W3CDTF">2022-03-10T14:09:57Z</dcterms:modified>
  <cp:revision>18</cp:revision>
  <dc:subject/>
  <dc:title>SLAdsRemover</dc:title>
</cp:coreProperties>
</file>